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C14-7690-45C7-AFA9-3C496029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21B-1B71-4477-9A9D-BF956A1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56B-C72B-47A0-B830-573814E8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983-9846-4573-956A-25B351FE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D64-CE96-46A7-A067-DB364DFE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194-8545-4D13-8FAC-EA9245A5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C5C-E926-47BA-A564-9E0E254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533-D79F-4AC0-B2C7-0BD58DD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3A0-9548-4A9B-909A-C93FAF49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59D-EADC-4BC4-86B8-F528BF8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CB2-826A-4FBA-BE2A-4903552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063-2FB1-4D09-BEA8-3EF9FA5F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8BB-0544-4E38-8E4C-B91C858B22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此文件已经设置了账户权限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用当前软件版本无法检测您的权限状态。请安装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最新版本。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版本下载地址：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http://www.wps.cn/product/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>fanweifeng</dc:creator>
  <dc:description/>
  <dc:language>en-US</dc:language>
  <cp:lastModifiedBy>ttt</cp:lastModifiedBy>
  <dcterms:modified xsi:type="dcterms:W3CDTF">2016-04-27T12:19:45Z</dcterms:modified>
  <cp:revision>2</cp:revision>
  <dc:subject/>
  <dc:title>该文件是WPS加密文件，请使用WPS客户端打开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13</vt:lpwstr>
  </property>
</Properties>
</file>